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7A08-7ED2-48B7-B507-D79F5C6A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FD921-9017-4FCF-8A2C-635DD0C2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E6EC-7501-4285-9217-C272A352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DD6E-ED8F-4CCB-BBD7-176BE0AA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F7F8-96D9-42FE-AB60-71D77BC6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97BC-DE72-47AA-923A-1CCEDA2B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798C-B90E-4E58-B569-D94F3DDE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9E78-0D4C-4822-A2C8-05653F6A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BC44-1928-4B5E-8B88-B7F99113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79ED-47AB-48E0-94E3-E618BE04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CAAD-A1BF-49D6-9C26-9E41D69B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D193-2B37-43A6-B985-ADF22D12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9382-E2E6-4974-82AF-39FB4DE5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8021-9F15-4923-BEF1-80D7DDC3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1F23-213E-4BCF-A189-49E52978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AB0B-DFCE-433C-B7C5-7A346120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2B4B-3ACD-4F9B-8E60-95980154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E8202-3817-4B26-B3A4-47E97BA4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AF883-227C-40EC-AEFF-D8D2BC1B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1013-FA61-42D2-96A3-365825F4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383F5-6098-41D8-A9FA-D6449795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B939-4C3D-498D-952F-D28817AD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8BF4-B0D1-489F-9F64-E8D90005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74DC-0C5D-4875-B486-970849D6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5EC8-73F7-4F4E-AECA-C6B89B47B7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F5B7-2CE7-4F7F-8EBC-37D4AECC84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18ff"/>
                </a:solidFill>
                <a:latin typeface="Arial"/>
              </a:rPr>
              <a:t>MSA Review, then…</a:t>
            </a:r>
            <a:br>
              <a:rPr sz="5000"/>
            </a:br>
            <a:r>
              <a:rPr b="0" lang="en-US" sz="5000" spc="-1" strike="noStrike">
                <a:solidFill>
                  <a:srgbClr val="4818ff"/>
                </a:solidFill>
                <a:latin typeface="Arial"/>
              </a:rPr>
              <a:t>Warm-up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590920"/>
            <a:ext cx="1600200" cy="761760"/>
          </a:xfrm>
          <a:prstGeom prst="parallelogram">
            <a:avLst>
              <a:gd name="adj" fmla="val 5251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43280" y="2400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590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743200"/>
            <a:ext cx="7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497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1080" y="262080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3920" y="3967200"/>
            <a:ext cx="66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4267080"/>
            <a:ext cx="2362320" cy="838440"/>
          </a:xfrm>
          <a:prstGeom prst="rtTriangl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1640" y="44956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45920" y="435780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56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composite fig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08320"/>
            <a:ext cx="822960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s made of multiple basic shapes (squares, rectangles, and triang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981080" y="3429000"/>
            <a:ext cx="914400" cy="1828800"/>
            <a:chOff x="1981080" y="3429000"/>
            <a:chExt cx="914400" cy="1828800"/>
          </a:xfrm>
        </p:grpSpPr>
        <p:sp>
          <p:nvSpPr>
            <p:cNvPr id="122" name=""/>
            <p:cNvSpPr/>
            <p:nvPr/>
          </p:nvSpPr>
          <p:spPr>
            <a:xfrm>
              <a:off x="1981080" y="4343400"/>
              <a:ext cx="914400" cy="914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3429000"/>
              <a:ext cx="914400" cy="914400"/>
            </a:xfrm>
            <a:prstGeom prst="rtTriangl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181480" y="2895480"/>
            <a:ext cx="2362320" cy="2133720"/>
            <a:chOff x="5181480" y="2895480"/>
            <a:chExt cx="2362320" cy="2133720"/>
          </a:xfrm>
        </p:grpSpPr>
        <p:sp>
          <p:nvSpPr>
            <p:cNvPr id="125" name=""/>
            <p:cNvSpPr/>
            <p:nvPr/>
          </p:nvSpPr>
          <p:spPr>
            <a:xfrm>
              <a:off x="5181480" y="2895480"/>
              <a:ext cx="1447920" cy="2133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29400" y="2895480"/>
              <a:ext cx="914400" cy="914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07600" y="326880"/>
            <a:ext cx="61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find the area of composite fig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3160" y="4330800"/>
            <a:ext cx="938160" cy="36360"/>
          </a:xfrm>
          <a:custGeom>
            <a:avLst/>
            <a:gdLst/>
            <a:ahLst/>
            <a:rect l="l" t="t" r="r" b="b"/>
            <a:pathLst>
              <a:path w="2605" h="100">
                <a:moveTo>
                  <a:pt x="5482" y="12030"/>
                </a:moveTo>
                <a:cubicBezTo>
                  <a:pt x="5503" y="12038"/>
                  <a:pt x="5551" y="12055"/>
                  <a:pt x="5606" y="12055"/>
                </a:cubicBezTo>
                <a:cubicBezTo>
                  <a:pt x="5669" y="12055"/>
                  <a:pt x="5709" y="12080"/>
                  <a:pt x="5779" y="12080"/>
                </a:cubicBezTo>
                <a:cubicBezTo>
                  <a:pt x="5840" y="12080"/>
                  <a:pt x="5853" y="12063"/>
                  <a:pt x="5904" y="12055"/>
                </a:cubicBezTo>
                <a:cubicBezTo>
                  <a:pt x="6093" y="12025"/>
                  <a:pt x="6316" y="12059"/>
                  <a:pt x="6499" y="12080"/>
                </a:cubicBezTo>
                <a:cubicBezTo>
                  <a:pt x="6605" y="12092"/>
                  <a:pt x="6720" y="12094"/>
                  <a:pt x="6821" y="12105"/>
                </a:cubicBezTo>
                <a:cubicBezTo>
                  <a:pt x="6901" y="12114"/>
                  <a:pt x="6973" y="12125"/>
                  <a:pt x="7045" y="12129"/>
                </a:cubicBezTo>
                <a:cubicBezTo>
                  <a:pt x="7140" y="12134"/>
                  <a:pt x="7237" y="12115"/>
                  <a:pt x="7317" y="12105"/>
                </a:cubicBezTo>
                <a:cubicBezTo>
                  <a:pt x="7441" y="12089"/>
                  <a:pt x="7569" y="12099"/>
                  <a:pt x="7689" y="12080"/>
                </a:cubicBezTo>
                <a:cubicBezTo>
                  <a:pt x="7783" y="12065"/>
                  <a:pt x="8047" y="12080"/>
                  <a:pt x="8062" y="1208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44840" y="3330720"/>
            <a:ext cx="928440" cy="447480"/>
          </a:xfrm>
          <a:custGeom>
            <a:avLst/>
            <a:gdLst/>
            <a:ahLst/>
            <a:rect l="l" t="t" r="r" b="b"/>
            <a:pathLst>
              <a:path w="2581" h="1241">
                <a:moveTo>
                  <a:pt x="7317" y="9351"/>
                </a:moveTo>
                <a:cubicBezTo>
                  <a:pt x="7242" y="9578"/>
                  <a:pt x="7152" y="9797"/>
                  <a:pt x="7069" y="10021"/>
                </a:cubicBezTo>
                <a:cubicBezTo>
                  <a:pt x="7088" y="10021"/>
                  <a:pt x="7178" y="9678"/>
                  <a:pt x="7218" y="9599"/>
                </a:cubicBezTo>
                <a:cubicBezTo>
                  <a:pt x="7296" y="9445"/>
                  <a:pt x="7418" y="9205"/>
                  <a:pt x="7590" y="9302"/>
                </a:cubicBezTo>
                <a:cubicBezTo>
                  <a:pt x="7627" y="9513"/>
                  <a:pt x="7659" y="9760"/>
                  <a:pt x="7565" y="9971"/>
                </a:cubicBezTo>
                <a:cubicBezTo>
                  <a:pt x="7516" y="9971"/>
                  <a:pt x="7508" y="9946"/>
                  <a:pt x="7541" y="9872"/>
                </a:cubicBezTo>
              </a:path>
              <a:path w="2581" h="1241">
                <a:moveTo>
                  <a:pt x="7268" y="9699"/>
                </a:moveTo>
                <a:cubicBezTo>
                  <a:pt x="7365" y="9699"/>
                  <a:pt x="7530" y="9669"/>
                  <a:pt x="7590" y="9699"/>
                </a:cubicBezTo>
              </a:path>
              <a:path w="2581" h="1241">
                <a:moveTo>
                  <a:pt x="7838" y="9847"/>
                </a:moveTo>
                <a:cubicBezTo>
                  <a:pt x="7819" y="10000"/>
                  <a:pt x="7752" y="10072"/>
                  <a:pt x="7665" y="10195"/>
                </a:cubicBezTo>
                <a:cubicBezTo>
                  <a:pt x="7708" y="10093"/>
                  <a:pt x="7798" y="9969"/>
                  <a:pt x="7863" y="9872"/>
                </a:cubicBezTo>
                <a:cubicBezTo>
                  <a:pt x="7881" y="9845"/>
                  <a:pt x="7912" y="9841"/>
                  <a:pt x="7938" y="9823"/>
                </a:cubicBezTo>
                <a:cubicBezTo>
                  <a:pt x="8039" y="9910"/>
                  <a:pt x="8028" y="10037"/>
                  <a:pt x="8062" y="10170"/>
                </a:cubicBezTo>
                <a:cubicBezTo>
                  <a:pt x="8081" y="10227"/>
                  <a:pt x="8089" y="10234"/>
                  <a:pt x="8086" y="10269"/>
                </a:cubicBezTo>
                <a:cubicBezTo>
                  <a:pt x="7988" y="10269"/>
                  <a:pt x="7911" y="10207"/>
                  <a:pt x="7813" y="10195"/>
                </a:cubicBezTo>
                <a:cubicBezTo>
                  <a:pt x="7671" y="10178"/>
                  <a:pt x="7720" y="10200"/>
                  <a:pt x="7640" y="10220"/>
                </a:cubicBezTo>
              </a:path>
              <a:path w="2581" h="1241">
                <a:moveTo>
                  <a:pt x="8334" y="9748"/>
                </a:moveTo>
                <a:cubicBezTo>
                  <a:pt x="8444" y="9736"/>
                  <a:pt x="8506" y="9684"/>
                  <a:pt x="8558" y="9748"/>
                </a:cubicBezTo>
              </a:path>
              <a:path w="2581" h="1241">
                <a:moveTo>
                  <a:pt x="8334" y="9897"/>
                </a:moveTo>
                <a:cubicBezTo>
                  <a:pt x="8409" y="9890"/>
                  <a:pt x="8482" y="9872"/>
                  <a:pt x="8558" y="9872"/>
                </a:cubicBezTo>
                <a:cubicBezTo>
                  <a:pt x="8566" y="9872"/>
                  <a:pt x="8574" y="9872"/>
                  <a:pt x="8582" y="9872"/>
                </a:cubicBezTo>
              </a:path>
              <a:path w="2581" h="1241">
                <a:moveTo>
                  <a:pt x="8979" y="9401"/>
                </a:moveTo>
                <a:cubicBezTo>
                  <a:pt x="8942" y="9570"/>
                  <a:pt x="8968" y="9731"/>
                  <a:pt x="8954" y="9897"/>
                </a:cubicBezTo>
                <a:cubicBezTo>
                  <a:pt x="8951" y="9933"/>
                  <a:pt x="8934" y="9983"/>
                  <a:pt x="8954" y="9922"/>
                </a:cubicBezTo>
                <a:cubicBezTo>
                  <a:pt x="8963" y="9843"/>
                  <a:pt x="8975" y="9745"/>
                  <a:pt x="9054" y="9699"/>
                </a:cubicBezTo>
                <a:cubicBezTo>
                  <a:pt x="9167" y="9632"/>
                  <a:pt x="9208" y="9705"/>
                  <a:pt x="9277" y="9773"/>
                </a:cubicBezTo>
                <a:cubicBezTo>
                  <a:pt x="9222" y="9894"/>
                  <a:pt x="9155" y="9964"/>
                  <a:pt x="9004" y="9947"/>
                </a:cubicBezTo>
                <a:cubicBezTo>
                  <a:pt x="8963" y="9927"/>
                  <a:pt x="8947" y="9929"/>
                  <a:pt x="8954" y="9897"/>
                </a:cubicBezTo>
              </a:path>
              <a:path w="2581" h="1241">
                <a:moveTo>
                  <a:pt x="9401" y="9426"/>
                </a:moveTo>
                <a:cubicBezTo>
                  <a:pt x="9401" y="9389"/>
                  <a:pt x="9423" y="9729"/>
                  <a:pt x="9426" y="9773"/>
                </a:cubicBezTo>
                <a:cubicBezTo>
                  <a:pt x="9426" y="9806"/>
                  <a:pt x="9426" y="9839"/>
                  <a:pt x="9426" y="9872"/>
                </a:cubicBezTo>
                <a:cubicBezTo>
                  <a:pt x="9426" y="10018"/>
                  <a:pt x="9420" y="9769"/>
                  <a:pt x="9426" y="9748"/>
                </a:cubicBezTo>
                <a:cubicBezTo>
                  <a:pt x="9441" y="9695"/>
                  <a:pt x="9562" y="9648"/>
                  <a:pt x="9599" y="9699"/>
                </a:cubicBezTo>
                <a:cubicBezTo>
                  <a:pt x="9654" y="9775"/>
                  <a:pt x="9649" y="9817"/>
                  <a:pt x="9649" y="9897"/>
                </a:cubicBezTo>
                <a:cubicBezTo>
                  <a:pt x="9649" y="9905"/>
                  <a:pt x="9649" y="9914"/>
                  <a:pt x="9649" y="9922"/>
                </a:cubicBezTo>
              </a:path>
              <a:path w="2581" h="1241">
                <a:moveTo>
                  <a:pt x="8880" y="10021"/>
                </a:moveTo>
                <a:cubicBezTo>
                  <a:pt x="9063" y="10009"/>
                  <a:pt x="9242" y="9996"/>
                  <a:pt x="9426" y="9996"/>
                </a:cubicBezTo>
                <a:cubicBezTo>
                  <a:pt x="9476" y="9996"/>
                  <a:pt x="9525" y="9996"/>
                  <a:pt x="9575" y="9996"/>
                </a:cubicBezTo>
              </a:path>
              <a:path w="2581" h="1241">
                <a:moveTo>
                  <a:pt x="9203" y="10195"/>
                </a:moveTo>
                <a:cubicBezTo>
                  <a:pt x="9238" y="10160"/>
                  <a:pt x="9331" y="10126"/>
                  <a:pt x="9401" y="10120"/>
                </a:cubicBezTo>
                <a:cubicBezTo>
                  <a:pt x="9409" y="10120"/>
                  <a:pt x="9418" y="10120"/>
                  <a:pt x="9426" y="10120"/>
                </a:cubicBezTo>
                <a:cubicBezTo>
                  <a:pt x="9451" y="10219"/>
                  <a:pt x="9441" y="10262"/>
                  <a:pt x="9351" y="10344"/>
                </a:cubicBezTo>
                <a:cubicBezTo>
                  <a:pt x="9289" y="10401"/>
                  <a:pt x="9206" y="10457"/>
                  <a:pt x="9128" y="10468"/>
                </a:cubicBezTo>
                <a:cubicBezTo>
                  <a:pt x="9147" y="10505"/>
                  <a:pt x="9200" y="10419"/>
                  <a:pt x="9252" y="10393"/>
                </a:cubicBezTo>
                <a:cubicBezTo>
                  <a:pt x="9316" y="10361"/>
                  <a:pt x="9383" y="10400"/>
                  <a:pt x="9451" y="10418"/>
                </a:cubicBezTo>
                <a:cubicBezTo>
                  <a:pt x="9520" y="10436"/>
                  <a:pt x="9543" y="10465"/>
                  <a:pt x="9575" y="1041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63880" y="4643280"/>
            <a:ext cx="957240" cy="401760"/>
          </a:xfrm>
          <a:custGeom>
            <a:avLst/>
            <a:gdLst/>
            <a:ahLst/>
            <a:rect l="l" t="t" r="r" b="b"/>
            <a:pathLst>
              <a:path w="2655" h="1118">
                <a:moveTo>
                  <a:pt x="8483" y="13047"/>
                </a:moveTo>
                <a:cubicBezTo>
                  <a:pt x="8439" y="13252"/>
                  <a:pt x="8346" y="13449"/>
                  <a:pt x="8260" y="13643"/>
                </a:cubicBezTo>
                <a:cubicBezTo>
                  <a:pt x="8252" y="13659"/>
                  <a:pt x="8243" y="13676"/>
                  <a:pt x="8235" y="13692"/>
                </a:cubicBezTo>
                <a:cubicBezTo>
                  <a:pt x="8270" y="13521"/>
                  <a:pt x="8341" y="13324"/>
                  <a:pt x="8434" y="13171"/>
                </a:cubicBezTo>
                <a:cubicBezTo>
                  <a:pt x="8497" y="13067"/>
                  <a:pt x="8593" y="12927"/>
                  <a:pt x="8706" y="12898"/>
                </a:cubicBezTo>
                <a:cubicBezTo>
                  <a:pt x="8787" y="13101"/>
                  <a:pt x="8724" y="13274"/>
                  <a:pt x="8706" y="13494"/>
                </a:cubicBezTo>
                <a:cubicBezTo>
                  <a:pt x="8698" y="13595"/>
                  <a:pt x="8698" y="13575"/>
                  <a:pt x="8682" y="13643"/>
                </a:cubicBezTo>
              </a:path>
              <a:path w="2655" h="1118">
                <a:moveTo>
                  <a:pt x="8384" y="13419"/>
                </a:moveTo>
                <a:cubicBezTo>
                  <a:pt x="8500" y="13410"/>
                  <a:pt x="8615" y="13379"/>
                  <a:pt x="8731" y="13370"/>
                </a:cubicBezTo>
                <a:cubicBezTo>
                  <a:pt x="8739" y="13370"/>
                  <a:pt x="8748" y="13370"/>
                  <a:pt x="8756" y="13370"/>
                </a:cubicBezTo>
              </a:path>
              <a:path w="2655" h="1118">
                <a:moveTo>
                  <a:pt x="8855" y="13568"/>
                </a:moveTo>
                <a:cubicBezTo>
                  <a:pt x="8855" y="13693"/>
                  <a:pt x="8834" y="13814"/>
                  <a:pt x="8830" y="13940"/>
                </a:cubicBezTo>
                <a:cubicBezTo>
                  <a:pt x="8830" y="13957"/>
                  <a:pt x="8830" y="13973"/>
                  <a:pt x="8830" y="13990"/>
                </a:cubicBezTo>
                <a:cubicBezTo>
                  <a:pt x="8908" y="13970"/>
                  <a:pt x="9013" y="13912"/>
                  <a:pt x="9103" y="13915"/>
                </a:cubicBezTo>
                <a:cubicBezTo>
                  <a:pt x="9114" y="13915"/>
                  <a:pt x="9234" y="13955"/>
                  <a:pt x="9252" y="13965"/>
                </a:cubicBezTo>
                <a:cubicBezTo>
                  <a:pt x="9305" y="13995"/>
                  <a:pt x="9348" y="13968"/>
                  <a:pt x="9401" y="13990"/>
                </a:cubicBezTo>
                <a:cubicBezTo>
                  <a:pt x="9424" y="14013"/>
                  <a:pt x="9428" y="14021"/>
                  <a:pt x="9451" y="14015"/>
                </a:cubicBezTo>
                <a:cubicBezTo>
                  <a:pt x="9495" y="13923"/>
                  <a:pt x="9473" y="13800"/>
                  <a:pt x="9500" y="13692"/>
                </a:cubicBezTo>
                <a:cubicBezTo>
                  <a:pt x="9519" y="13635"/>
                  <a:pt x="9528" y="13628"/>
                  <a:pt x="9525" y="13593"/>
                </a:cubicBezTo>
                <a:cubicBezTo>
                  <a:pt x="9423" y="13573"/>
                  <a:pt x="9370" y="13568"/>
                  <a:pt x="9252" y="13568"/>
                </a:cubicBezTo>
                <a:cubicBezTo>
                  <a:pt x="9191" y="13568"/>
                  <a:pt x="8876" y="13530"/>
                  <a:pt x="8855" y="13593"/>
                </a:cubicBezTo>
              </a:path>
              <a:path w="2655" h="1118">
                <a:moveTo>
                  <a:pt x="9798" y="13345"/>
                </a:moveTo>
                <a:cubicBezTo>
                  <a:pt x="9895" y="13345"/>
                  <a:pt x="9897" y="13319"/>
                  <a:pt x="9872" y="13395"/>
                </a:cubicBezTo>
              </a:path>
              <a:path w="2655" h="1118">
                <a:moveTo>
                  <a:pt x="9699" y="13543"/>
                </a:moveTo>
                <a:cubicBezTo>
                  <a:pt x="9765" y="13543"/>
                  <a:pt x="9798" y="13543"/>
                  <a:pt x="9847" y="13543"/>
                </a:cubicBezTo>
              </a:path>
              <a:path w="2655" h="1118">
                <a:moveTo>
                  <a:pt x="10195" y="13047"/>
                </a:moveTo>
                <a:cubicBezTo>
                  <a:pt x="10252" y="12932"/>
                  <a:pt x="10201" y="13242"/>
                  <a:pt x="10195" y="13370"/>
                </a:cubicBezTo>
                <a:cubicBezTo>
                  <a:pt x="10195" y="13512"/>
                  <a:pt x="10205" y="13540"/>
                  <a:pt x="10170" y="13618"/>
                </a:cubicBezTo>
              </a:path>
              <a:path w="2655" h="1118">
                <a:moveTo>
                  <a:pt x="10418" y="13271"/>
                </a:moveTo>
                <a:cubicBezTo>
                  <a:pt x="10418" y="13326"/>
                  <a:pt x="10393" y="13598"/>
                  <a:pt x="10443" y="13593"/>
                </a:cubicBezTo>
                <a:cubicBezTo>
                  <a:pt x="10595" y="13579"/>
                  <a:pt x="10607" y="13488"/>
                  <a:pt x="10666" y="13370"/>
                </a:cubicBezTo>
                <a:cubicBezTo>
                  <a:pt x="10666" y="13345"/>
                  <a:pt x="10666" y="13320"/>
                  <a:pt x="10666" y="13295"/>
                </a:cubicBezTo>
                <a:cubicBezTo>
                  <a:pt x="10666" y="13438"/>
                  <a:pt x="10679" y="13484"/>
                  <a:pt x="10765" y="13593"/>
                </a:cubicBezTo>
                <a:cubicBezTo>
                  <a:pt x="10911" y="13484"/>
                  <a:pt x="10877" y="13432"/>
                  <a:pt x="10815" y="13295"/>
                </a:cubicBezTo>
                <a:cubicBezTo>
                  <a:pt x="10807" y="13270"/>
                  <a:pt x="10798" y="13246"/>
                  <a:pt x="10790" y="1322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29160" y="3732120"/>
            <a:ext cx="536760" cy="465120"/>
          </a:xfrm>
          <a:custGeom>
            <a:avLst/>
            <a:gdLst/>
            <a:ahLst/>
            <a:rect l="l" t="t" r="r" b="b"/>
            <a:pathLst>
              <a:path w="1490" h="1291">
                <a:moveTo>
                  <a:pt x="15081" y="10815"/>
                </a:moveTo>
                <a:cubicBezTo>
                  <a:pt x="15098" y="11065"/>
                  <a:pt x="15106" y="11308"/>
                  <a:pt x="15106" y="11559"/>
                </a:cubicBezTo>
                <a:cubicBezTo>
                  <a:pt x="15106" y="11592"/>
                  <a:pt x="15106" y="11625"/>
                  <a:pt x="15106" y="11658"/>
                </a:cubicBezTo>
                <a:cubicBezTo>
                  <a:pt x="15087" y="11377"/>
                  <a:pt x="15087" y="11097"/>
                  <a:pt x="15106" y="10815"/>
                </a:cubicBezTo>
                <a:cubicBezTo>
                  <a:pt x="15129" y="10608"/>
                  <a:pt x="15135" y="10550"/>
                  <a:pt x="15156" y="10418"/>
                </a:cubicBezTo>
                <a:cubicBezTo>
                  <a:pt x="15373" y="10363"/>
                  <a:pt x="15409" y="10666"/>
                  <a:pt x="15478" y="10864"/>
                </a:cubicBezTo>
                <a:cubicBezTo>
                  <a:pt x="15511" y="10959"/>
                  <a:pt x="15553" y="11238"/>
                  <a:pt x="15553" y="11261"/>
                </a:cubicBezTo>
              </a:path>
              <a:path w="1490" h="1291">
                <a:moveTo>
                  <a:pt x="15081" y="11212"/>
                </a:moveTo>
                <a:cubicBezTo>
                  <a:pt x="15204" y="11142"/>
                  <a:pt x="15327" y="11077"/>
                  <a:pt x="15453" y="11013"/>
                </a:cubicBezTo>
              </a:path>
              <a:path w="1490" h="1291">
                <a:moveTo>
                  <a:pt x="15776" y="11261"/>
                </a:moveTo>
                <a:cubicBezTo>
                  <a:pt x="15834" y="11290"/>
                  <a:pt x="15856" y="11389"/>
                  <a:pt x="15875" y="11460"/>
                </a:cubicBezTo>
                <a:cubicBezTo>
                  <a:pt x="15875" y="11468"/>
                  <a:pt x="15875" y="11477"/>
                  <a:pt x="15875" y="11485"/>
                </a:cubicBezTo>
                <a:cubicBezTo>
                  <a:pt x="16034" y="11458"/>
                  <a:pt x="16186" y="11376"/>
                  <a:pt x="16346" y="11336"/>
                </a:cubicBezTo>
                <a:cubicBezTo>
                  <a:pt x="16398" y="11323"/>
                  <a:pt x="16531" y="11316"/>
                  <a:pt x="16545" y="11261"/>
                </a:cubicBezTo>
                <a:cubicBezTo>
                  <a:pt x="16572" y="11160"/>
                  <a:pt x="16570" y="11067"/>
                  <a:pt x="16570" y="10964"/>
                </a:cubicBezTo>
                <a:cubicBezTo>
                  <a:pt x="16570" y="10956"/>
                  <a:pt x="16570" y="10947"/>
                  <a:pt x="16570" y="10939"/>
                </a:cubicBezTo>
                <a:cubicBezTo>
                  <a:pt x="16446" y="10960"/>
                  <a:pt x="16285" y="11005"/>
                  <a:pt x="16173" y="11063"/>
                </a:cubicBezTo>
                <a:cubicBezTo>
                  <a:pt x="16066" y="11119"/>
                  <a:pt x="15976" y="11171"/>
                  <a:pt x="15875" y="11212"/>
                </a:cubicBezTo>
                <a:cubicBezTo>
                  <a:pt x="15852" y="11235"/>
                  <a:pt x="15841" y="11243"/>
                  <a:pt x="15875" y="1123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99160" y="2874960"/>
            <a:ext cx="27000" cy="965160"/>
          </a:xfrm>
          <a:custGeom>
            <a:avLst/>
            <a:gdLst/>
            <a:ahLst/>
            <a:rect l="l" t="t" r="r" b="b"/>
            <a:pathLst>
              <a:path w="75" h="2680">
                <a:moveTo>
                  <a:pt x="18405" y="10666"/>
                </a:moveTo>
                <a:cubicBezTo>
                  <a:pt x="18405" y="10483"/>
                  <a:pt x="18362" y="10232"/>
                  <a:pt x="18380" y="10071"/>
                </a:cubicBezTo>
                <a:cubicBezTo>
                  <a:pt x="18386" y="10020"/>
                  <a:pt x="18405" y="9984"/>
                  <a:pt x="18405" y="9922"/>
                </a:cubicBezTo>
                <a:cubicBezTo>
                  <a:pt x="18405" y="9437"/>
                  <a:pt x="18454" y="8899"/>
                  <a:pt x="18380" y="8434"/>
                </a:cubicBezTo>
                <a:cubicBezTo>
                  <a:pt x="18368" y="8359"/>
                  <a:pt x="18367" y="8282"/>
                  <a:pt x="18355" y="8210"/>
                </a:cubicBezTo>
                <a:cubicBezTo>
                  <a:pt x="18348" y="8171"/>
                  <a:pt x="18355" y="8125"/>
                  <a:pt x="18355" y="8086"/>
                </a:cubicBezTo>
              </a:path>
              <a:path w="75" h="2680">
                <a:moveTo>
                  <a:pt x="18331" y="8210"/>
                </a:moveTo>
                <a:cubicBezTo>
                  <a:pt x="18359" y="8173"/>
                  <a:pt x="18355" y="8158"/>
                  <a:pt x="18355" y="8111"/>
                </a:cubicBezTo>
                <a:cubicBezTo>
                  <a:pt x="18390" y="8099"/>
                  <a:pt x="18380" y="8104"/>
                  <a:pt x="18380" y="8062"/>
                </a:cubicBezTo>
                <a:cubicBezTo>
                  <a:pt x="18412" y="8051"/>
                  <a:pt x="18405" y="7954"/>
                  <a:pt x="18405" y="7987"/>
                </a:cubicBezTo>
                <a:cubicBezTo>
                  <a:pt x="18405" y="7995"/>
                  <a:pt x="18405" y="8004"/>
                  <a:pt x="18405" y="801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0360" y="3295800"/>
            <a:ext cx="366840" cy="303120"/>
          </a:xfrm>
          <a:custGeom>
            <a:avLst/>
            <a:gdLst/>
            <a:ahLst/>
            <a:rect l="l" t="t" r="r" b="b"/>
            <a:pathLst>
              <a:path w="1018" h="844">
                <a:moveTo>
                  <a:pt x="19050" y="9327"/>
                </a:moveTo>
                <a:cubicBezTo>
                  <a:pt x="19050" y="9547"/>
                  <a:pt x="19028" y="9754"/>
                  <a:pt x="19000" y="9971"/>
                </a:cubicBezTo>
                <a:cubicBezTo>
                  <a:pt x="19000" y="10006"/>
                  <a:pt x="19005" y="10005"/>
                  <a:pt x="19025" y="9947"/>
                </a:cubicBezTo>
                <a:cubicBezTo>
                  <a:pt x="19025" y="9699"/>
                  <a:pt x="19008" y="9446"/>
                  <a:pt x="19075" y="9203"/>
                </a:cubicBezTo>
                <a:cubicBezTo>
                  <a:pt x="19083" y="9186"/>
                  <a:pt x="19092" y="9170"/>
                  <a:pt x="19100" y="9153"/>
                </a:cubicBezTo>
                <a:cubicBezTo>
                  <a:pt x="19267" y="9177"/>
                  <a:pt x="19287" y="9290"/>
                  <a:pt x="19323" y="9451"/>
                </a:cubicBezTo>
                <a:cubicBezTo>
                  <a:pt x="19344" y="9545"/>
                  <a:pt x="19372" y="9672"/>
                  <a:pt x="19372" y="9773"/>
                </a:cubicBezTo>
              </a:path>
              <a:path w="1018" h="844">
                <a:moveTo>
                  <a:pt x="19050" y="9748"/>
                </a:moveTo>
                <a:cubicBezTo>
                  <a:pt x="19068" y="9678"/>
                  <a:pt x="19162" y="9636"/>
                  <a:pt x="19224" y="9599"/>
                </a:cubicBezTo>
                <a:cubicBezTo>
                  <a:pt x="19272" y="9576"/>
                  <a:pt x="19286" y="9568"/>
                  <a:pt x="19323" y="9575"/>
                </a:cubicBezTo>
              </a:path>
              <a:path w="1018" h="844">
                <a:moveTo>
                  <a:pt x="19621" y="9575"/>
                </a:moveTo>
                <a:cubicBezTo>
                  <a:pt x="19632" y="9644"/>
                  <a:pt x="19645" y="9701"/>
                  <a:pt x="19645" y="9773"/>
                </a:cubicBezTo>
                <a:cubicBezTo>
                  <a:pt x="19645" y="9826"/>
                  <a:pt x="19629" y="9871"/>
                  <a:pt x="19621" y="9922"/>
                </a:cubicBezTo>
                <a:cubicBezTo>
                  <a:pt x="19621" y="9817"/>
                  <a:pt x="19602" y="9726"/>
                  <a:pt x="19596" y="9624"/>
                </a:cubicBezTo>
                <a:cubicBezTo>
                  <a:pt x="19593" y="9577"/>
                  <a:pt x="19588" y="9566"/>
                  <a:pt x="19621" y="9550"/>
                </a:cubicBezTo>
                <a:cubicBezTo>
                  <a:pt x="19695" y="9515"/>
                  <a:pt x="19763" y="9471"/>
                  <a:pt x="19844" y="9451"/>
                </a:cubicBezTo>
                <a:cubicBezTo>
                  <a:pt x="19887" y="9440"/>
                  <a:pt x="19879" y="9469"/>
                  <a:pt x="19893" y="9426"/>
                </a:cubicBezTo>
                <a:cubicBezTo>
                  <a:pt x="19906" y="9476"/>
                  <a:pt x="19931" y="9519"/>
                  <a:pt x="19943" y="9575"/>
                </a:cubicBezTo>
                <a:cubicBezTo>
                  <a:pt x="19957" y="9641"/>
                  <a:pt x="19978" y="9717"/>
                  <a:pt x="19993" y="9748"/>
                </a:cubicBezTo>
                <a:cubicBezTo>
                  <a:pt x="20009" y="9780"/>
                  <a:pt x="20017" y="9774"/>
                  <a:pt x="20017" y="9823"/>
                </a:cubicBezTo>
                <a:cubicBezTo>
                  <a:pt x="19927" y="9823"/>
                  <a:pt x="19855" y="9857"/>
                  <a:pt x="19769" y="9872"/>
                </a:cubicBezTo>
                <a:cubicBezTo>
                  <a:pt x="19700" y="9884"/>
                  <a:pt x="19653" y="9854"/>
                  <a:pt x="19621" y="9897"/>
                </a:cubicBezTo>
                <a:cubicBezTo>
                  <a:pt x="19613" y="9905"/>
                  <a:pt x="19604" y="9914"/>
                  <a:pt x="19596" y="992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find the area of a composite figur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 Divide your figure into smaller shap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 Find the area of each smaller shap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 Add the areas toge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086600" y="3886200"/>
            <a:ext cx="914400" cy="1828800"/>
            <a:chOff x="7086600" y="3886200"/>
            <a:chExt cx="914400" cy="1828800"/>
          </a:xfrm>
        </p:grpSpPr>
        <p:sp>
          <p:nvSpPr>
            <p:cNvPr id="137" name=""/>
            <p:cNvSpPr/>
            <p:nvPr/>
          </p:nvSpPr>
          <p:spPr>
            <a:xfrm>
              <a:off x="7086600" y="4800600"/>
              <a:ext cx="914400" cy="914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6600" y="3886200"/>
              <a:ext cx="914400" cy="914400"/>
            </a:xfrm>
            <a:prstGeom prst="rtTriangl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317000" y="571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9280" y="4648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1520" y="380880"/>
            <a:ext cx="610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find the area of composite fig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99200" y="4786200"/>
            <a:ext cx="1571760" cy="588960"/>
          </a:xfrm>
          <a:custGeom>
            <a:avLst/>
            <a:gdLst/>
            <a:ahLst/>
            <a:rect l="l" t="t" r="r" b="b"/>
            <a:pathLst>
              <a:path w="4366" h="1638">
                <a:moveTo>
                  <a:pt x="19720" y="13370"/>
                </a:moveTo>
                <a:cubicBezTo>
                  <a:pt x="19773" y="13363"/>
                  <a:pt x="19815" y="13347"/>
                  <a:pt x="19869" y="13345"/>
                </a:cubicBezTo>
                <a:cubicBezTo>
                  <a:pt x="19929" y="13342"/>
                  <a:pt x="19963" y="13329"/>
                  <a:pt x="20017" y="13320"/>
                </a:cubicBezTo>
                <a:cubicBezTo>
                  <a:pt x="20082" y="13310"/>
                  <a:pt x="20151" y="13298"/>
                  <a:pt x="20216" y="13295"/>
                </a:cubicBezTo>
                <a:cubicBezTo>
                  <a:pt x="20367" y="13289"/>
                  <a:pt x="20527" y="13301"/>
                  <a:pt x="20662" y="13320"/>
                </a:cubicBezTo>
                <a:cubicBezTo>
                  <a:pt x="20722" y="13329"/>
                  <a:pt x="20776" y="13298"/>
                  <a:pt x="20836" y="13295"/>
                </a:cubicBezTo>
                <a:cubicBezTo>
                  <a:pt x="21271" y="13277"/>
                  <a:pt x="21758" y="13265"/>
                  <a:pt x="22175" y="13320"/>
                </a:cubicBezTo>
                <a:cubicBezTo>
                  <a:pt x="22215" y="13325"/>
                  <a:pt x="22258" y="13320"/>
                  <a:pt x="22299" y="13320"/>
                </a:cubicBezTo>
              </a:path>
              <a:path w="4366" h="1638">
                <a:moveTo>
                  <a:pt x="22523" y="14337"/>
                </a:moveTo>
                <a:cubicBezTo>
                  <a:pt x="22523" y="14312"/>
                  <a:pt x="22523" y="14304"/>
                  <a:pt x="22498" y="14312"/>
                </a:cubicBezTo>
                <a:cubicBezTo>
                  <a:pt x="22554" y="14312"/>
                  <a:pt x="22527" y="14326"/>
                  <a:pt x="22547" y="14312"/>
                </a:cubicBezTo>
                <a:cubicBezTo>
                  <a:pt x="22646" y="14243"/>
                  <a:pt x="22752" y="14213"/>
                  <a:pt x="22870" y="14188"/>
                </a:cubicBezTo>
                <a:cubicBezTo>
                  <a:pt x="22913" y="14179"/>
                  <a:pt x="22879" y="14177"/>
                  <a:pt x="22920" y="14163"/>
                </a:cubicBezTo>
                <a:cubicBezTo>
                  <a:pt x="22886" y="14298"/>
                  <a:pt x="22815" y="14462"/>
                  <a:pt x="22796" y="14610"/>
                </a:cubicBezTo>
                <a:cubicBezTo>
                  <a:pt x="22790" y="14657"/>
                  <a:pt x="22768" y="14865"/>
                  <a:pt x="22820" y="14883"/>
                </a:cubicBezTo>
              </a:path>
              <a:path w="4366" h="1638">
                <a:moveTo>
                  <a:pt x="23416" y="14486"/>
                </a:moveTo>
                <a:cubicBezTo>
                  <a:pt x="23437" y="14551"/>
                  <a:pt x="23450" y="14626"/>
                  <a:pt x="23440" y="14734"/>
                </a:cubicBezTo>
                <a:cubicBezTo>
                  <a:pt x="23421" y="14849"/>
                  <a:pt x="23413" y="14865"/>
                  <a:pt x="23416" y="14932"/>
                </a:cubicBezTo>
                <a:cubicBezTo>
                  <a:pt x="23439" y="14770"/>
                  <a:pt x="23437" y="14619"/>
                  <a:pt x="23490" y="14461"/>
                </a:cubicBezTo>
                <a:cubicBezTo>
                  <a:pt x="23575" y="14209"/>
                  <a:pt x="23705" y="14505"/>
                  <a:pt x="23738" y="14610"/>
                </a:cubicBezTo>
                <a:cubicBezTo>
                  <a:pt x="23757" y="14725"/>
                  <a:pt x="23766" y="14741"/>
                  <a:pt x="23763" y="14808"/>
                </a:cubicBezTo>
                <a:cubicBezTo>
                  <a:pt x="23763" y="14671"/>
                  <a:pt x="23784" y="14539"/>
                  <a:pt x="23837" y="14412"/>
                </a:cubicBezTo>
                <a:cubicBezTo>
                  <a:pt x="23875" y="14355"/>
                  <a:pt x="23870" y="14330"/>
                  <a:pt x="23912" y="14337"/>
                </a:cubicBezTo>
                <a:cubicBezTo>
                  <a:pt x="23994" y="14517"/>
                  <a:pt x="23990" y="14700"/>
                  <a:pt x="24061" y="14883"/>
                </a:cubicBezTo>
                <a:cubicBezTo>
                  <a:pt x="24069" y="14891"/>
                  <a:pt x="24077" y="14900"/>
                  <a:pt x="24085" y="1490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52960" y="4589640"/>
            <a:ext cx="820800" cy="492120"/>
          </a:xfrm>
          <a:custGeom>
            <a:avLst/>
            <a:gdLst/>
            <a:ahLst/>
            <a:rect l="l" t="t" r="r" b="b"/>
            <a:pathLst>
              <a:path w="2283" h="1365">
                <a:moveTo>
                  <a:pt x="11534" y="14064"/>
                </a:moveTo>
                <a:cubicBezTo>
                  <a:pt x="11614" y="13968"/>
                  <a:pt x="11792" y="13640"/>
                  <a:pt x="11881" y="13469"/>
                </a:cubicBezTo>
                <a:cubicBezTo>
                  <a:pt x="12019" y="13202"/>
                  <a:pt x="12157" y="12996"/>
                  <a:pt x="12353" y="12774"/>
                </a:cubicBezTo>
                <a:cubicBezTo>
                  <a:pt x="12436" y="12858"/>
                  <a:pt x="12357" y="13441"/>
                  <a:pt x="12353" y="13618"/>
                </a:cubicBezTo>
                <a:cubicBezTo>
                  <a:pt x="12350" y="13741"/>
                  <a:pt x="12353" y="14015"/>
                  <a:pt x="12328" y="14114"/>
                </a:cubicBezTo>
              </a:path>
              <a:path w="2283" h="1365">
                <a:moveTo>
                  <a:pt x="11733" y="13742"/>
                </a:moveTo>
                <a:cubicBezTo>
                  <a:pt x="11923" y="13698"/>
                  <a:pt x="12110" y="13648"/>
                  <a:pt x="12303" y="13618"/>
                </a:cubicBezTo>
                <a:cubicBezTo>
                  <a:pt x="12328" y="13618"/>
                  <a:pt x="12336" y="13618"/>
                  <a:pt x="12353" y="13618"/>
                </a:cubicBezTo>
              </a:path>
              <a:path w="2283" h="1365">
                <a:moveTo>
                  <a:pt x="12626" y="13543"/>
                </a:moveTo>
                <a:cubicBezTo>
                  <a:pt x="12737" y="13515"/>
                  <a:pt x="12831" y="13482"/>
                  <a:pt x="12948" y="13469"/>
                </a:cubicBezTo>
              </a:path>
              <a:path w="2283" h="1365">
                <a:moveTo>
                  <a:pt x="12675" y="13742"/>
                </a:moveTo>
                <a:cubicBezTo>
                  <a:pt x="12757" y="13721"/>
                  <a:pt x="12838" y="13692"/>
                  <a:pt x="12923" y="13692"/>
                </a:cubicBezTo>
              </a:path>
              <a:path w="2283" h="1365">
                <a:moveTo>
                  <a:pt x="13171" y="13246"/>
                </a:moveTo>
                <a:cubicBezTo>
                  <a:pt x="13236" y="13326"/>
                  <a:pt x="13268" y="13192"/>
                  <a:pt x="13345" y="13122"/>
                </a:cubicBezTo>
                <a:cubicBezTo>
                  <a:pt x="13559" y="13350"/>
                  <a:pt x="13569" y="13572"/>
                  <a:pt x="13320" y="13816"/>
                </a:cubicBezTo>
                <a:cubicBezTo>
                  <a:pt x="13175" y="13958"/>
                  <a:pt x="13110" y="13956"/>
                  <a:pt x="13072" y="13841"/>
                </a:cubicBezTo>
                <a:cubicBezTo>
                  <a:pt x="13206" y="13678"/>
                  <a:pt x="13304" y="13582"/>
                  <a:pt x="13469" y="13767"/>
                </a:cubicBezTo>
                <a:cubicBezTo>
                  <a:pt x="13516" y="13837"/>
                  <a:pt x="13533" y="13856"/>
                  <a:pt x="13519" y="13915"/>
                </a:cubicBezTo>
              </a:path>
              <a:path w="2283" h="1365">
                <a:moveTo>
                  <a:pt x="13816" y="13146"/>
                </a:moveTo>
                <a:cubicBezTo>
                  <a:pt x="13816" y="13394"/>
                  <a:pt x="13816" y="13643"/>
                  <a:pt x="13816" y="1389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32240" y="4705200"/>
            <a:ext cx="812880" cy="304920"/>
          </a:xfrm>
          <a:custGeom>
            <a:avLst/>
            <a:gdLst/>
            <a:ahLst/>
            <a:rect l="l" t="t" r="r" b="b"/>
            <a:pathLst>
              <a:path w="2258" h="844">
                <a:moveTo>
                  <a:pt x="14560" y="13345"/>
                </a:moveTo>
                <a:cubicBezTo>
                  <a:pt x="14568" y="13495"/>
                  <a:pt x="14759" y="13774"/>
                  <a:pt x="14610" y="13791"/>
                </a:cubicBezTo>
                <a:cubicBezTo>
                  <a:pt x="14593" y="13775"/>
                  <a:pt x="14577" y="13758"/>
                  <a:pt x="14560" y="13742"/>
                </a:cubicBezTo>
              </a:path>
              <a:path w="2258" h="844">
                <a:moveTo>
                  <a:pt x="14536" y="13593"/>
                </a:moveTo>
                <a:cubicBezTo>
                  <a:pt x="14643" y="13566"/>
                  <a:pt x="14684" y="13556"/>
                  <a:pt x="14759" y="13543"/>
                </a:cubicBezTo>
              </a:path>
              <a:path w="2258" h="844">
                <a:moveTo>
                  <a:pt x="15032" y="13271"/>
                </a:moveTo>
                <a:cubicBezTo>
                  <a:pt x="15015" y="13366"/>
                  <a:pt x="15007" y="13446"/>
                  <a:pt x="15007" y="13543"/>
                </a:cubicBezTo>
                <a:cubicBezTo>
                  <a:pt x="15162" y="13601"/>
                  <a:pt x="15246" y="13531"/>
                  <a:pt x="15379" y="13444"/>
                </a:cubicBezTo>
              </a:path>
              <a:path w="2258" h="844">
                <a:moveTo>
                  <a:pt x="15379" y="13146"/>
                </a:moveTo>
                <a:cubicBezTo>
                  <a:pt x="15337" y="13323"/>
                  <a:pt x="15166" y="13737"/>
                  <a:pt x="15255" y="13915"/>
                </a:cubicBezTo>
                <a:cubicBezTo>
                  <a:pt x="15263" y="13890"/>
                  <a:pt x="15272" y="13866"/>
                  <a:pt x="15280" y="13841"/>
                </a:cubicBezTo>
              </a:path>
              <a:path w="2258" h="844">
                <a:moveTo>
                  <a:pt x="15701" y="13171"/>
                </a:moveTo>
                <a:cubicBezTo>
                  <a:pt x="15656" y="13171"/>
                  <a:pt x="15859" y="13081"/>
                  <a:pt x="15875" y="13072"/>
                </a:cubicBezTo>
                <a:cubicBezTo>
                  <a:pt x="16082" y="13254"/>
                  <a:pt x="16039" y="13500"/>
                  <a:pt x="15801" y="13717"/>
                </a:cubicBezTo>
                <a:cubicBezTo>
                  <a:pt x="15760" y="13734"/>
                  <a:pt x="15718" y="13750"/>
                  <a:pt x="15677" y="13767"/>
                </a:cubicBezTo>
                <a:cubicBezTo>
                  <a:pt x="15621" y="13646"/>
                  <a:pt x="15720" y="13415"/>
                  <a:pt x="15925" y="13543"/>
                </a:cubicBezTo>
                <a:cubicBezTo>
                  <a:pt x="16036" y="13612"/>
                  <a:pt x="16073" y="14022"/>
                  <a:pt x="16073" y="13891"/>
                </a:cubicBezTo>
                <a:cubicBezTo>
                  <a:pt x="16073" y="13874"/>
                  <a:pt x="16073" y="13858"/>
                  <a:pt x="16073" y="13841"/>
                </a:cubicBezTo>
              </a:path>
              <a:path w="2258" h="844">
                <a:moveTo>
                  <a:pt x="16421" y="13395"/>
                </a:moveTo>
                <a:cubicBezTo>
                  <a:pt x="16520" y="13395"/>
                  <a:pt x="16619" y="13395"/>
                  <a:pt x="16718" y="13395"/>
                </a:cubicBezTo>
              </a:path>
              <a:path w="2258" h="844">
                <a:moveTo>
                  <a:pt x="16520" y="13593"/>
                </a:moveTo>
                <a:cubicBezTo>
                  <a:pt x="16612" y="13573"/>
                  <a:pt x="16700" y="13563"/>
                  <a:pt x="16793" y="1354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65960" y="3875040"/>
            <a:ext cx="650880" cy="1063800"/>
          </a:xfrm>
          <a:custGeom>
            <a:avLst/>
            <a:gdLst/>
            <a:ahLst/>
            <a:rect l="l" t="t" r="r" b="b"/>
            <a:pathLst>
              <a:path w="1811" h="2953">
                <a:moveTo>
                  <a:pt x="19745" y="13345"/>
                </a:moveTo>
                <a:cubicBezTo>
                  <a:pt x="19745" y="13337"/>
                  <a:pt x="19745" y="13328"/>
                  <a:pt x="19745" y="13320"/>
                </a:cubicBezTo>
                <a:cubicBezTo>
                  <a:pt x="19697" y="13332"/>
                  <a:pt x="19671" y="13374"/>
                  <a:pt x="19645" y="13419"/>
                </a:cubicBezTo>
                <a:cubicBezTo>
                  <a:pt x="19603" y="13490"/>
                  <a:pt x="19653" y="13524"/>
                  <a:pt x="19670" y="13593"/>
                </a:cubicBezTo>
                <a:cubicBezTo>
                  <a:pt x="19679" y="13630"/>
                  <a:pt x="19670" y="13678"/>
                  <a:pt x="19670" y="13717"/>
                </a:cubicBezTo>
              </a:path>
              <a:path w="1811" h="2953">
                <a:moveTo>
                  <a:pt x="19720" y="13370"/>
                </a:moveTo>
                <a:cubicBezTo>
                  <a:pt x="19699" y="13412"/>
                  <a:pt x="19692" y="13421"/>
                  <a:pt x="19645" y="13419"/>
                </a:cubicBezTo>
                <a:cubicBezTo>
                  <a:pt x="19588" y="13416"/>
                  <a:pt x="19570" y="13356"/>
                  <a:pt x="19546" y="13320"/>
                </a:cubicBezTo>
                <a:cubicBezTo>
                  <a:pt x="19485" y="13227"/>
                  <a:pt x="19499" y="13143"/>
                  <a:pt x="19472" y="13047"/>
                </a:cubicBezTo>
                <a:cubicBezTo>
                  <a:pt x="19456" y="12990"/>
                  <a:pt x="19463" y="12930"/>
                  <a:pt x="19447" y="12874"/>
                </a:cubicBezTo>
                <a:cubicBezTo>
                  <a:pt x="19428" y="12808"/>
                  <a:pt x="19401" y="12813"/>
                  <a:pt x="19397" y="12725"/>
                </a:cubicBezTo>
                <a:cubicBezTo>
                  <a:pt x="19393" y="12645"/>
                  <a:pt x="19439" y="12588"/>
                  <a:pt x="19422" y="12502"/>
                </a:cubicBezTo>
                <a:cubicBezTo>
                  <a:pt x="19410" y="12438"/>
                  <a:pt x="19394" y="12362"/>
                  <a:pt x="19372" y="12303"/>
                </a:cubicBezTo>
                <a:cubicBezTo>
                  <a:pt x="19370" y="12297"/>
                  <a:pt x="19316" y="12250"/>
                  <a:pt x="19323" y="12229"/>
                </a:cubicBezTo>
                <a:cubicBezTo>
                  <a:pt x="19351" y="12148"/>
                  <a:pt x="19415" y="12097"/>
                  <a:pt x="19447" y="12005"/>
                </a:cubicBezTo>
                <a:cubicBezTo>
                  <a:pt x="19489" y="11885"/>
                  <a:pt x="19435" y="11941"/>
                  <a:pt x="19422" y="11857"/>
                </a:cubicBezTo>
                <a:cubicBezTo>
                  <a:pt x="19408" y="11763"/>
                  <a:pt x="19359" y="11681"/>
                  <a:pt x="19348" y="11584"/>
                </a:cubicBezTo>
                <a:cubicBezTo>
                  <a:pt x="19337" y="11483"/>
                  <a:pt x="19417" y="11408"/>
                  <a:pt x="19447" y="11311"/>
                </a:cubicBezTo>
                <a:cubicBezTo>
                  <a:pt x="19477" y="11215"/>
                  <a:pt x="19491" y="11107"/>
                  <a:pt x="19521" y="11013"/>
                </a:cubicBezTo>
                <a:cubicBezTo>
                  <a:pt x="19546" y="10937"/>
                  <a:pt x="19598" y="10853"/>
                  <a:pt x="19645" y="10790"/>
                </a:cubicBezTo>
                <a:cubicBezTo>
                  <a:pt x="19669" y="10759"/>
                  <a:pt x="19667" y="10768"/>
                  <a:pt x="19720" y="10765"/>
                </a:cubicBezTo>
                <a:cubicBezTo>
                  <a:pt x="19794" y="10761"/>
                  <a:pt x="19734" y="10773"/>
                  <a:pt x="19745" y="10790"/>
                </a:cubicBezTo>
              </a:path>
              <a:path w="1811" h="2953">
                <a:moveTo>
                  <a:pt x="17959" y="11906"/>
                </a:moveTo>
                <a:cubicBezTo>
                  <a:pt x="18061" y="11827"/>
                  <a:pt x="18159" y="11823"/>
                  <a:pt x="18281" y="11782"/>
                </a:cubicBezTo>
                <a:cubicBezTo>
                  <a:pt x="18371" y="11746"/>
                  <a:pt x="18377" y="11730"/>
                  <a:pt x="18430" y="11733"/>
                </a:cubicBezTo>
                <a:cubicBezTo>
                  <a:pt x="18476" y="11913"/>
                  <a:pt x="18455" y="12113"/>
                  <a:pt x="18455" y="12303"/>
                </a:cubicBezTo>
              </a:path>
              <a:path w="1811" h="2953">
                <a:moveTo>
                  <a:pt x="18703" y="11931"/>
                </a:moveTo>
                <a:cubicBezTo>
                  <a:pt x="18723" y="12002"/>
                  <a:pt x="18744" y="12059"/>
                  <a:pt x="18752" y="12129"/>
                </a:cubicBezTo>
                <a:cubicBezTo>
                  <a:pt x="18752" y="12019"/>
                  <a:pt x="18766" y="11970"/>
                  <a:pt x="18802" y="11881"/>
                </a:cubicBezTo>
                <a:cubicBezTo>
                  <a:pt x="18844" y="11779"/>
                  <a:pt x="18893" y="12028"/>
                  <a:pt x="18901" y="12055"/>
                </a:cubicBezTo>
                <a:cubicBezTo>
                  <a:pt x="18901" y="12063"/>
                  <a:pt x="18901" y="12072"/>
                  <a:pt x="18901" y="12080"/>
                </a:cubicBezTo>
                <a:cubicBezTo>
                  <a:pt x="18901" y="12015"/>
                  <a:pt x="18855" y="11964"/>
                  <a:pt x="18901" y="11906"/>
                </a:cubicBezTo>
                <a:cubicBezTo>
                  <a:pt x="18945" y="11849"/>
                  <a:pt x="19022" y="12082"/>
                  <a:pt x="19025" y="12105"/>
                </a:cubicBezTo>
                <a:cubicBezTo>
                  <a:pt x="19025" y="12113"/>
                  <a:pt x="19025" y="12121"/>
                  <a:pt x="19025" y="1212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00800" y="5205240"/>
            <a:ext cx="777600" cy="385920"/>
          </a:xfrm>
          <a:custGeom>
            <a:avLst/>
            <a:gdLst/>
            <a:ahLst/>
            <a:rect l="l" t="t" r="r" b="b"/>
            <a:pathLst>
              <a:path w="2159" h="1068">
                <a:moveTo>
                  <a:pt x="15429" y="14684"/>
                </a:moveTo>
                <a:cubicBezTo>
                  <a:pt x="15429" y="14673"/>
                  <a:pt x="15335" y="15152"/>
                  <a:pt x="15329" y="15180"/>
                </a:cubicBezTo>
                <a:cubicBezTo>
                  <a:pt x="15275" y="15430"/>
                  <a:pt x="15268" y="15728"/>
                  <a:pt x="15553" y="15354"/>
                </a:cubicBezTo>
                <a:cubicBezTo>
                  <a:pt x="15586" y="15288"/>
                  <a:pt x="15619" y="15222"/>
                  <a:pt x="15652" y="15156"/>
                </a:cubicBezTo>
                <a:cubicBezTo>
                  <a:pt x="15644" y="15131"/>
                  <a:pt x="15635" y="15106"/>
                  <a:pt x="15627" y="15081"/>
                </a:cubicBezTo>
                <a:cubicBezTo>
                  <a:pt x="15555" y="15131"/>
                  <a:pt x="15373" y="15530"/>
                  <a:pt x="15379" y="15528"/>
                </a:cubicBezTo>
                <a:cubicBezTo>
                  <a:pt x="15420" y="15495"/>
                  <a:pt x="15462" y="15462"/>
                  <a:pt x="15503" y="15429"/>
                </a:cubicBezTo>
              </a:path>
              <a:path w="2159" h="1068">
                <a:moveTo>
                  <a:pt x="15776" y="14833"/>
                </a:moveTo>
                <a:cubicBezTo>
                  <a:pt x="15870" y="14730"/>
                  <a:pt x="15942" y="14694"/>
                  <a:pt x="16073" y="14635"/>
                </a:cubicBezTo>
                <a:cubicBezTo>
                  <a:pt x="16138" y="14789"/>
                  <a:pt x="16091" y="14952"/>
                  <a:pt x="15949" y="15081"/>
                </a:cubicBezTo>
                <a:cubicBezTo>
                  <a:pt x="15949" y="15073"/>
                  <a:pt x="15949" y="15064"/>
                  <a:pt x="15949" y="15056"/>
                </a:cubicBezTo>
                <a:cubicBezTo>
                  <a:pt x="16068" y="14938"/>
                  <a:pt x="16213" y="15028"/>
                  <a:pt x="16123" y="15205"/>
                </a:cubicBezTo>
                <a:cubicBezTo>
                  <a:pt x="16008" y="15430"/>
                  <a:pt x="15770" y="15468"/>
                  <a:pt x="15577" y="15379"/>
                </a:cubicBezTo>
              </a:path>
              <a:path w="2159" h="1068">
                <a:moveTo>
                  <a:pt x="16446" y="15007"/>
                </a:moveTo>
                <a:cubicBezTo>
                  <a:pt x="16446" y="15164"/>
                  <a:pt x="16446" y="15222"/>
                  <a:pt x="16446" y="15329"/>
                </a:cubicBezTo>
                <a:cubicBezTo>
                  <a:pt x="16446" y="15606"/>
                  <a:pt x="16461" y="15154"/>
                  <a:pt x="16470" y="15131"/>
                </a:cubicBezTo>
                <a:cubicBezTo>
                  <a:pt x="16589" y="14834"/>
                  <a:pt x="16736" y="15224"/>
                  <a:pt x="16743" y="15354"/>
                </a:cubicBezTo>
                <a:cubicBezTo>
                  <a:pt x="16735" y="15371"/>
                  <a:pt x="16726" y="15387"/>
                  <a:pt x="16718" y="15404"/>
                </a:cubicBezTo>
                <a:cubicBezTo>
                  <a:pt x="16705" y="15273"/>
                  <a:pt x="16657" y="15054"/>
                  <a:pt x="16842" y="15007"/>
                </a:cubicBezTo>
                <a:cubicBezTo>
                  <a:pt x="16948" y="14980"/>
                  <a:pt x="16939" y="15320"/>
                  <a:pt x="16942" y="15354"/>
                </a:cubicBezTo>
                <a:cubicBezTo>
                  <a:pt x="16942" y="15440"/>
                  <a:pt x="16953" y="15422"/>
                  <a:pt x="16991" y="15255"/>
                </a:cubicBezTo>
              </a:path>
              <a:path w="2159" h="1068">
                <a:moveTo>
                  <a:pt x="17041" y="14486"/>
                </a:moveTo>
                <a:cubicBezTo>
                  <a:pt x="17114" y="14469"/>
                  <a:pt x="17162" y="14461"/>
                  <a:pt x="17239" y="14461"/>
                </a:cubicBezTo>
                <a:cubicBezTo>
                  <a:pt x="17214" y="14601"/>
                  <a:pt x="17185" y="14649"/>
                  <a:pt x="17090" y="14759"/>
                </a:cubicBezTo>
                <a:cubicBezTo>
                  <a:pt x="17218" y="14733"/>
                  <a:pt x="17308" y="14709"/>
                  <a:pt x="17438" y="1470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07080" y="4803840"/>
            <a:ext cx="528840" cy="839880"/>
          </a:xfrm>
          <a:custGeom>
            <a:avLst/>
            <a:gdLst/>
            <a:ahLst/>
            <a:rect l="l" t="t" r="r" b="b"/>
            <a:pathLst>
              <a:path w="1465" h="2333">
                <a:moveTo>
                  <a:pt x="19794" y="13345"/>
                </a:moveTo>
                <a:cubicBezTo>
                  <a:pt x="19757" y="13379"/>
                  <a:pt x="19667" y="13447"/>
                  <a:pt x="19645" y="13494"/>
                </a:cubicBezTo>
                <a:cubicBezTo>
                  <a:pt x="19596" y="13601"/>
                  <a:pt x="19633" y="13662"/>
                  <a:pt x="19645" y="13767"/>
                </a:cubicBezTo>
                <a:cubicBezTo>
                  <a:pt x="19653" y="13833"/>
                  <a:pt x="19636" y="13907"/>
                  <a:pt x="19670" y="13965"/>
                </a:cubicBezTo>
                <a:cubicBezTo>
                  <a:pt x="19712" y="14035"/>
                  <a:pt x="19772" y="14067"/>
                  <a:pt x="19745" y="14163"/>
                </a:cubicBezTo>
                <a:cubicBezTo>
                  <a:pt x="19729" y="14219"/>
                  <a:pt x="19658" y="14309"/>
                  <a:pt x="19645" y="14337"/>
                </a:cubicBezTo>
                <a:cubicBezTo>
                  <a:pt x="19610" y="14414"/>
                  <a:pt x="19568" y="14466"/>
                  <a:pt x="19521" y="14536"/>
                </a:cubicBezTo>
                <a:cubicBezTo>
                  <a:pt x="19593" y="14555"/>
                  <a:pt x="19614" y="14520"/>
                  <a:pt x="19645" y="14610"/>
                </a:cubicBezTo>
                <a:cubicBezTo>
                  <a:pt x="19665" y="14669"/>
                  <a:pt x="19639" y="14756"/>
                  <a:pt x="19621" y="14808"/>
                </a:cubicBezTo>
                <a:cubicBezTo>
                  <a:pt x="19598" y="14875"/>
                  <a:pt x="19612" y="14939"/>
                  <a:pt x="19596" y="15007"/>
                </a:cubicBezTo>
                <a:cubicBezTo>
                  <a:pt x="19574" y="15098"/>
                  <a:pt x="19564" y="15188"/>
                  <a:pt x="19546" y="15280"/>
                </a:cubicBezTo>
                <a:cubicBezTo>
                  <a:pt x="19523" y="15396"/>
                  <a:pt x="19511" y="15465"/>
                  <a:pt x="19546" y="15577"/>
                </a:cubicBezTo>
                <a:cubicBezTo>
                  <a:pt x="19575" y="15670"/>
                  <a:pt x="19571" y="15667"/>
                  <a:pt x="19670" y="15677"/>
                </a:cubicBezTo>
                <a:cubicBezTo>
                  <a:pt x="19809" y="15691"/>
                  <a:pt x="19740" y="15676"/>
                  <a:pt x="19819" y="15652"/>
                </a:cubicBezTo>
              </a:path>
              <a:path w="1465" h="2333">
                <a:moveTo>
                  <a:pt x="18355" y="14486"/>
                </a:moveTo>
                <a:cubicBezTo>
                  <a:pt x="18447" y="14433"/>
                  <a:pt x="18556" y="14415"/>
                  <a:pt x="18653" y="14362"/>
                </a:cubicBezTo>
                <a:cubicBezTo>
                  <a:pt x="18679" y="14576"/>
                  <a:pt x="18662" y="14767"/>
                  <a:pt x="18653" y="14982"/>
                </a:cubicBezTo>
                <a:cubicBezTo>
                  <a:pt x="18653" y="15007"/>
                  <a:pt x="18653" y="15015"/>
                  <a:pt x="18653" y="14982"/>
                </a:cubicBezTo>
              </a:path>
              <a:path w="1465" h="2333">
                <a:moveTo>
                  <a:pt x="18827" y="14660"/>
                </a:moveTo>
                <a:cubicBezTo>
                  <a:pt x="18835" y="14714"/>
                  <a:pt x="18893" y="14856"/>
                  <a:pt x="18876" y="14833"/>
                </a:cubicBezTo>
                <a:cubicBezTo>
                  <a:pt x="18868" y="14825"/>
                  <a:pt x="18860" y="14816"/>
                  <a:pt x="18852" y="14808"/>
                </a:cubicBezTo>
                <a:cubicBezTo>
                  <a:pt x="18852" y="14768"/>
                  <a:pt x="18822" y="14516"/>
                  <a:pt x="18901" y="14511"/>
                </a:cubicBezTo>
                <a:cubicBezTo>
                  <a:pt x="18993" y="14505"/>
                  <a:pt x="19008" y="14680"/>
                  <a:pt x="19025" y="14734"/>
                </a:cubicBezTo>
                <a:cubicBezTo>
                  <a:pt x="19028" y="14699"/>
                  <a:pt x="19032" y="14462"/>
                  <a:pt x="19124" y="14511"/>
                </a:cubicBezTo>
                <a:cubicBezTo>
                  <a:pt x="19221" y="14562"/>
                  <a:pt x="19224" y="14917"/>
                  <a:pt x="19224" y="14808"/>
                </a:cubicBezTo>
                <a:cubicBezTo>
                  <a:pt x="19224" y="14792"/>
                  <a:pt x="19224" y="14775"/>
                  <a:pt x="19224" y="1475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9840" y="5456160"/>
            <a:ext cx="1152360" cy="250920"/>
          </a:xfrm>
          <a:custGeom>
            <a:avLst/>
            <a:gdLst/>
            <a:ahLst/>
            <a:rect l="l" t="t" r="r" b="b"/>
            <a:pathLst>
              <a:path w="3201" h="695">
                <a:moveTo>
                  <a:pt x="19720" y="15776"/>
                </a:moveTo>
                <a:cubicBezTo>
                  <a:pt x="19778" y="15776"/>
                  <a:pt x="19786" y="15776"/>
                  <a:pt x="19844" y="15776"/>
                </a:cubicBezTo>
                <a:cubicBezTo>
                  <a:pt x="20038" y="15776"/>
                  <a:pt x="20226" y="15777"/>
                  <a:pt x="20414" y="15751"/>
                </a:cubicBezTo>
                <a:cubicBezTo>
                  <a:pt x="20475" y="15743"/>
                  <a:pt x="20530" y="15734"/>
                  <a:pt x="20588" y="15726"/>
                </a:cubicBezTo>
                <a:cubicBezTo>
                  <a:pt x="20653" y="15717"/>
                  <a:pt x="20724" y="15720"/>
                  <a:pt x="20786" y="15701"/>
                </a:cubicBezTo>
                <a:cubicBezTo>
                  <a:pt x="20879" y="15672"/>
                  <a:pt x="20845" y="15690"/>
                  <a:pt x="20935" y="15701"/>
                </a:cubicBezTo>
                <a:cubicBezTo>
                  <a:pt x="21026" y="15712"/>
                  <a:pt x="21098" y="15682"/>
                  <a:pt x="21183" y="15677"/>
                </a:cubicBezTo>
                <a:cubicBezTo>
                  <a:pt x="21373" y="15667"/>
                  <a:pt x="21579" y="15681"/>
                  <a:pt x="21754" y="15701"/>
                </a:cubicBezTo>
                <a:cubicBezTo>
                  <a:pt x="21826" y="15709"/>
                  <a:pt x="21886" y="15723"/>
                  <a:pt x="21952" y="15751"/>
                </a:cubicBezTo>
                <a:cubicBezTo>
                  <a:pt x="22014" y="15778"/>
                  <a:pt x="22065" y="15813"/>
                  <a:pt x="22126" y="15825"/>
                </a:cubicBezTo>
                <a:cubicBezTo>
                  <a:pt x="22213" y="15842"/>
                  <a:pt x="22323" y="15792"/>
                  <a:pt x="22399" y="15850"/>
                </a:cubicBezTo>
                <a:cubicBezTo>
                  <a:pt x="22391" y="15850"/>
                  <a:pt x="22382" y="15850"/>
                  <a:pt x="22374" y="15850"/>
                </a:cubicBezTo>
              </a:path>
              <a:path w="3201" h="695">
                <a:moveTo>
                  <a:pt x="22250" y="15329"/>
                </a:moveTo>
                <a:cubicBezTo>
                  <a:pt x="22274" y="15256"/>
                  <a:pt x="22539" y="15459"/>
                  <a:pt x="22572" y="15478"/>
                </a:cubicBezTo>
                <a:cubicBezTo>
                  <a:pt x="22658" y="15527"/>
                  <a:pt x="22797" y="15627"/>
                  <a:pt x="22895" y="15652"/>
                </a:cubicBezTo>
              </a:path>
              <a:path w="3201" h="695">
                <a:moveTo>
                  <a:pt x="22299" y="15329"/>
                </a:moveTo>
                <a:cubicBezTo>
                  <a:pt x="22277" y="15398"/>
                  <a:pt x="22312" y="15469"/>
                  <a:pt x="22324" y="15553"/>
                </a:cubicBezTo>
                <a:cubicBezTo>
                  <a:pt x="22335" y="15519"/>
                  <a:pt x="22231" y="15322"/>
                  <a:pt x="22200" y="15230"/>
                </a:cubicBezTo>
                <a:cubicBezTo>
                  <a:pt x="22192" y="15205"/>
                  <a:pt x="22183" y="15181"/>
                  <a:pt x="22175" y="15156"/>
                </a:cubicBezTo>
                <a:cubicBezTo>
                  <a:pt x="22284" y="15156"/>
                  <a:pt x="22388" y="15176"/>
                  <a:pt x="22498" y="15180"/>
                </a:cubicBezTo>
                <a:cubicBezTo>
                  <a:pt x="22539" y="15180"/>
                  <a:pt x="22547" y="15180"/>
                  <a:pt x="22572" y="1518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85040" y="4205160"/>
            <a:ext cx="401760" cy="509760"/>
          </a:xfrm>
          <a:custGeom>
            <a:avLst/>
            <a:gdLst/>
            <a:ahLst/>
            <a:rect l="l" t="t" r="r" b="b"/>
            <a:pathLst>
              <a:path w="1118" h="1415">
                <a:moveTo>
                  <a:pt x="20613" y="12650"/>
                </a:moveTo>
                <a:cubicBezTo>
                  <a:pt x="20573" y="12534"/>
                  <a:pt x="20513" y="12840"/>
                  <a:pt x="20513" y="12849"/>
                </a:cubicBezTo>
                <a:cubicBezTo>
                  <a:pt x="20513" y="12924"/>
                  <a:pt x="20570" y="13073"/>
                  <a:pt x="20662" y="12998"/>
                </a:cubicBezTo>
                <a:cubicBezTo>
                  <a:pt x="20733" y="12927"/>
                  <a:pt x="20755" y="12907"/>
                  <a:pt x="20786" y="12849"/>
                </a:cubicBezTo>
                <a:cubicBezTo>
                  <a:pt x="20684" y="12770"/>
                  <a:pt x="20680" y="12959"/>
                  <a:pt x="20687" y="13022"/>
                </a:cubicBezTo>
                <a:cubicBezTo>
                  <a:pt x="20698" y="13127"/>
                  <a:pt x="20745" y="13077"/>
                  <a:pt x="20786" y="13047"/>
                </a:cubicBezTo>
              </a:path>
              <a:path w="1118" h="1415">
                <a:moveTo>
                  <a:pt x="20960" y="12774"/>
                </a:moveTo>
                <a:cubicBezTo>
                  <a:pt x="20966" y="12851"/>
                  <a:pt x="20967" y="12884"/>
                  <a:pt x="21010" y="12948"/>
                </a:cubicBezTo>
                <a:cubicBezTo>
                  <a:pt x="21010" y="12886"/>
                  <a:pt x="20990" y="12759"/>
                  <a:pt x="21059" y="12725"/>
                </a:cubicBezTo>
                <a:cubicBezTo>
                  <a:pt x="21150" y="12680"/>
                  <a:pt x="21184" y="12826"/>
                  <a:pt x="21208" y="12874"/>
                </a:cubicBezTo>
                <a:cubicBezTo>
                  <a:pt x="21208" y="12882"/>
                  <a:pt x="21208" y="12890"/>
                  <a:pt x="21208" y="12898"/>
                </a:cubicBezTo>
                <a:cubicBezTo>
                  <a:pt x="21208" y="12851"/>
                  <a:pt x="21183" y="12777"/>
                  <a:pt x="21233" y="12774"/>
                </a:cubicBezTo>
                <a:cubicBezTo>
                  <a:pt x="21363" y="12767"/>
                  <a:pt x="21397" y="12857"/>
                  <a:pt x="21406" y="12973"/>
                </a:cubicBezTo>
                <a:cubicBezTo>
                  <a:pt x="21406" y="12981"/>
                  <a:pt x="21406" y="12990"/>
                  <a:pt x="21406" y="12998"/>
                </a:cubicBezTo>
              </a:path>
              <a:path w="1118" h="1415">
                <a:moveTo>
                  <a:pt x="21630" y="11708"/>
                </a:moveTo>
                <a:cubicBezTo>
                  <a:pt x="21607" y="11662"/>
                  <a:pt x="21379" y="11903"/>
                  <a:pt x="21332" y="11931"/>
                </a:cubicBezTo>
                <a:cubicBezTo>
                  <a:pt x="21242" y="11967"/>
                  <a:pt x="21201" y="11947"/>
                  <a:pt x="21208" y="12005"/>
                </a:cubicBezTo>
              </a:path>
              <a:path w="1118" h="1415">
                <a:moveTo>
                  <a:pt x="21307" y="11683"/>
                </a:moveTo>
                <a:cubicBezTo>
                  <a:pt x="21282" y="11834"/>
                  <a:pt x="21242" y="11973"/>
                  <a:pt x="21233" y="12129"/>
                </a:cubicBezTo>
                <a:cubicBezTo>
                  <a:pt x="21343" y="12116"/>
                  <a:pt x="21444" y="12105"/>
                  <a:pt x="21555" y="12105"/>
                </a:cubicBezTo>
                <a:cubicBezTo>
                  <a:pt x="21563" y="12105"/>
                  <a:pt x="21572" y="12105"/>
                  <a:pt x="21580" y="1210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67800" y="3705120"/>
            <a:ext cx="696600" cy="455760"/>
          </a:xfrm>
          <a:custGeom>
            <a:avLst/>
            <a:gdLst/>
            <a:ahLst/>
            <a:rect l="l" t="t" r="r" b="b"/>
            <a:pathLst>
              <a:path w="1936" h="1266">
                <a:moveTo>
                  <a:pt x="21903" y="11063"/>
                </a:moveTo>
                <a:cubicBezTo>
                  <a:pt x="21996" y="11012"/>
                  <a:pt x="22045" y="10996"/>
                  <a:pt x="22151" y="10988"/>
                </a:cubicBezTo>
                <a:cubicBezTo>
                  <a:pt x="22150" y="11174"/>
                  <a:pt x="22027" y="11351"/>
                  <a:pt x="21903" y="11509"/>
                </a:cubicBezTo>
                <a:cubicBezTo>
                  <a:pt x="21886" y="11526"/>
                  <a:pt x="21870" y="11542"/>
                  <a:pt x="21853" y="11559"/>
                </a:cubicBezTo>
                <a:cubicBezTo>
                  <a:pt x="21984" y="11520"/>
                  <a:pt x="22220" y="11490"/>
                  <a:pt x="22299" y="11361"/>
                </a:cubicBezTo>
                <a:cubicBezTo>
                  <a:pt x="22307" y="11336"/>
                  <a:pt x="22316" y="11311"/>
                  <a:pt x="22324" y="11286"/>
                </a:cubicBezTo>
              </a:path>
              <a:path w="1936" h="1266">
                <a:moveTo>
                  <a:pt x="22399" y="10716"/>
                </a:moveTo>
                <a:cubicBezTo>
                  <a:pt x="22417" y="10958"/>
                  <a:pt x="22467" y="11193"/>
                  <a:pt x="22498" y="11435"/>
                </a:cubicBezTo>
                <a:cubicBezTo>
                  <a:pt x="22498" y="11463"/>
                  <a:pt x="22500" y="11469"/>
                  <a:pt x="22523" y="11435"/>
                </a:cubicBezTo>
              </a:path>
              <a:path w="1936" h="1266">
                <a:moveTo>
                  <a:pt x="22796" y="11063"/>
                </a:moveTo>
                <a:cubicBezTo>
                  <a:pt x="22775" y="11157"/>
                  <a:pt x="22807" y="11231"/>
                  <a:pt x="22820" y="11336"/>
                </a:cubicBezTo>
                <a:cubicBezTo>
                  <a:pt x="22820" y="11271"/>
                  <a:pt x="22774" y="10948"/>
                  <a:pt x="22920" y="10988"/>
                </a:cubicBezTo>
                <a:cubicBezTo>
                  <a:pt x="23059" y="11026"/>
                  <a:pt x="23093" y="11245"/>
                  <a:pt x="23093" y="11261"/>
                </a:cubicBezTo>
                <a:cubicBezTo>
                  <a:pt x="23083" y="11166"/>
                  <a:pt x="23023" y="10941"/>
                  <a:pt x="23192" y="10914"/>
                </a:cubicBezTo>
                <a:cubicBezTo>
                  <a:pt x="23341" y="10890"/>
                  <a:pt x="23349" y="11087"/>
                  <a:pt x="23366" y="11187"/>
                </a:cubicBezTo>
              </a:path>
              <a:path w="1936" h="1266">
                <a:moveTo>
                  <a:pt x="23341" y="10319"/>
                </a:moveTo>
                <a:cubicBezTo>
                  <a:pt x="23405" y="10300"/>
                  <a:pt x="23561" y="10252"/>
                  <a:pt x="23540" y="10393"/>
                </a:cubicBezTo>
                <a:cubicBezTo>
                  <a:pt x="23521" y="10516"/>
                  <a:pt x="23466" y="10578"/>
                  <a:pt x="23391" y="10666"/>
                </a:cubicBezTo>
                <a:cubicBezTo>
                  <a:pt x="23536" y="10643"/>
                  <a:pt x="23655" y="10578"/>
                  <a:pt x="23788" y="1054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97920" y="5626080"/>
            <a:ext cx="544320" cy="347760"/>
          </a:xfrm>
          <a:custGeom>
            <a:avLst/>
            <a:gdLst/>
            <a:ahLst/>
            <a:rect l="l" t="t" r="r" b="b"/>
            <a:pathLst>
              <a:path w="1514" h="968">
                <a:moveTo>
                  <a:pt x="22820" y="16049"/>
                </a:moveTo>
                <a:cubicBezTo>
                  <a:pt x="22820" y="16161"/>
                  <a:pt x="22756" y="16256"/>
                  <a:pt x="22771" y="16371"/>
                </a:cubicBezTo>
                <a:cubicBezTo>
                  <a:pt x="22779" y="16379"/>
                  <a:pt x="22788" y="16388"/>
                  <a:pt x="22796" y="16396"/>
                </a:cubicBezTo>
                <a:cubicBezTo>
                  <a:pt x="22896" y="16363"/>
                  <a:pt x="23048" y="16339"/>
                  <a:pt x="23093" y="16247"/>
                </a:cubicBezTo>
              </a:path>
              <a:path w="1514" h="968">
                <a:moveTo>
                  <a:pt x="23068" y="15949"/>
                </a:moveTo>
                <a:cubicBezTo>
                  <a:pt x="23068" y="15999"/>
                  <a:pt x="23065" y="16601"/>
                  <a:pt x="23093" y="16594"/>
                </a:cubicBezTo>
                <a:cubicBezTo>
                  <a:pt x="23101" y="16569"/>
                  <a:pt x="23110" y="16545"/>
                  <a:pt x="23118" y="16520"/>
                </a:cubicBezTo>
              </a:path>
              <a:path w="1514" h="968">
                <a:moveTo>
                  <a:pt x="23168" y="15949"/>
                </a:moveTo>
                <a:cubicBezTo>
                  <a:pt x="23272" y="15887"/>
                  <a:pt x="23400" y="15851"/>
                  <a:pt x="23391" y="16024"/>
                </a:cubicBezTo>
                <a:cubicBezTo>
                  <a:pt x="23383" y="16177"/>
                  <a:pt x="23278" y="16302"/>
                  <a:pt x="23242" y="16446"/>
                </a:cubicBezTo>
                <a:cubicBezTo>
                  <a:pt x="23369" y="16470"/>
                  <a:pt x="23400" y="16420"/>
                  <a:pt x="23515" y="16371"/>
                </a:cubicBezTo>
              </a:path>
              <a:path w="1514" h="968">
                <a:moveTo>
                  <a:pt x="23664" y="16123"/>
                </a:moveTo>
                <a:cubicBezTo>
                  <a:pt x="23672" y="16164"/>
                  <a:pt x="23680" y="16206"/>
                  <a:pt x="23688" y="16247"/>
                </a:cubicBezTo>
                <a:cubicBezTo>
                  <a:pt x="23688" y="16452"/>
                  <a:pt x="23708" y="16088"/>
                  <a:pt x="23713" y="16073"/>
                </a:cubicBezTo>
                <a:cubicBezTo>
                  <a:pt x="23798" y="15802"/>
                  <a:pt x="23909" y="16078"/>
                  <a:pt x="23961" y="16197"/>
                </a:cubicBezTo>
                <a:cubicBezTo>
                  <a:pt x="23961" y="16205"/>
                  <a:pt x="23961" y="16214"/>
                  <a:pt x="23961" y="16222"/>
                </a:cubicBezTo>
                <a:cubicBezTo>
                  <a:pt x="23947" y="16135"/>
                  <a:pt x="23910" y="15945"/>
                  <a:pt x="23986" y="15875"/>
                </a:cubicBezTo>
                <a:cubicBezTo>
                  <a:pt x="24030" y="15834"/>
                  <a:pt x="24050" y="16102"/>
                  <a:pt x="23986" y="16148"/>
                </a:cubicBezTo>
                <a:cubicBezTo>
                  <a:pt x="23901" y="16148"/>
                  <a:pt x="23873" y="16114"/>
                  <a:pt x="23887" y="15999"/>
                </a:cubicBezTo>
              </a:path>
              <a:path w="1514" h="968">
                <a:moveTo>
                  <a:pt x="23937" y="15677"/>
                </a:moveTo>
                <a:cubicBezTo>
                  <a:pt x="23960" y="15630"/>
                  <a:pt x="24059" y="15594"/>
                  <a:pt x="24085" y="15677"/>
                </a:cubicBezTo>
                <a:cubicBezTo>
                  <a:pt x="24114" y="15770"/>
                  <a:pt x="24038" y="15832"/>
                  <a:pt x="24011" y="15900"/>
                </a:cubicBezTo>
                <a:cubicBezTo>
                  <a:pt x="24118" y="15871"/>
                  <a:pt x="24190" y="15817"/>
                  <a:pt x="24284" y="1575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 Divide the figure into smaller sha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 Find the area of each smaller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 Add the areas toget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781680" y="2895480"/>
            <a:ext cx="1295640" cy="2743200"/>
            <a:chOff x="6781680" y="2895480"/>
            <a:chExt cx="1295640" cy="2743200"/>
          </a:xfrm>
        </p:grpSpPr>
        <p:sp>
          <p:nvSpPr>
            <p:cNvPr id="155" name=""/>
            <p:cNvSpPr/>
            <p:nvPr/>
          </p:nvSpPr>
          <p:spPr>
            <a:xfrm>
              <a:off x="6781680" y="3657600"/>
              <a:ext cx="1295640" cy="19810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91520" y="2895480"/>
              <a:ext cx="685800" cy="7621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7164720" y="5638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22080" y="4572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83480" y="3352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1280" y="353880"/>
            <a:ext cx="610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find the area of composite fig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39000" y="2901960"/>
            <a:ext cx="44280" cy="27000"/>
          </a:xfrm>
          <a:custGeom>
            <a:avLst/>
            <a:gdLst/>
            <a:ahLst/>
            <a:rect l="l" t="t" r="r" b="b"/>
            <a:pathLst>
              <a:path w="125" h="75">
                <a:moveTo>
                  <a:pt x="19273" y="8136"/>
                </a:moveTo>
                <a:cubicBezTo>
                  <a:pt x="19331" y="8136"/>
                  <a:pt x="19366" y="8116"/>
                  <a:pt x="19397" y="806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62840" y="3581280"/>
            <a:ext cx="189000" cy="88920"/>
          </a:xfrm>
          <a:custGeom>
            <a:avLst/>
            <a:gdLst/>
            <a:ahLst/>
            <a:rect l="l" t="t" r="r" b="b"/>
            <a:pathLst>
              <a:path w="521" h="249">
                <a:moveTo>
                  <a:pt x="19794" y="9971"/>
                </a:moveTo>
                <a:cubicBezTo>
                  <a:pt x="19794" y="9915"/>
                  <a:pt x="19811" y="10084"/>
                  <a:pt x="19819" y="10096"/>
                </a:cubicBezTo>
                <a:cubicBezTo>
                  <a:pt x="19834" y="10121"/>
                  <a:pt x="19861" y="10119"/>
                  <a:pt x="19844" y="10071"/>
                </a:cubicBezTo>
                <a:cubicBezTo>
                  <a:pt x="19819" y="10021"/>
                  <a:pt x="19811" y="10004"/>
                  <a:pt x="19794" y="9971"/>
                </a:cubicBezTo>
                <a:cubicBezTo>
                  <a:pt x="19794" y="9963"/>
                  <a:pt x="19794" y="9955"/>
                  <a:pt x="19794" y="9947"/>
                </a:cubicBezTo>
                <a:cubicBezTo>
                  <a:pt x="19798" y="9969"/>
                  <a:pt x="19846" y="10090"/>
                  <a:pt x="19844" y="10096"/>
                </a:cubicBezTo>
                <a:cubicBezTo>
                  <a:pt x="19840" y="10105"/>
                  <a:pt x="19802" y="10074"/>
                  <a:pt x="19794" y="10071"/>
                </a:cubicBezTo>
              </a:path>
              <a:path w="521" h="249">
                <a:moveTo>
                  <a:pt x="19645" y="10145"/>
                </a:moveTo>
                <a:cubicBezTo>
                  <a:pt x="19637" y="10145"/>
                  <a:pt x="19629" y="10145"/>
                  <a:pt x="19621" y="10145"/>
                </a:cubicBezTo>
                <a:cubicBezTo>
                  <a:pt x="19635" y="10102"/>
                  <a:pt x="19700" y="10143"/>
                  <a:pt x="19745" y="10170"/>
                </a:cubicBezTo>
                <a:cubicBezTo>
                  <a:pt x="19770" y="10185"/>
                  <a:pt x="19813" y="10195"/>
                  <a:pt x="19769" y="10195"/>
                </a:cubicBezTo>
                <a:cubicBezTo>
                  <a:pt x="19712" y="10107"/>
                  <a:pt x="19684" y="10135"/>
                  <a:pt x="19819" y="10145"/>
                </a:cubicBezTo>
                <a:cubicBezTo>
                  <a:pt x="19902" y="10151"/>
                  <a:pt x="19972" y="10144"/>
                  <a:pt x="20042" y="10096"/>
                </a:cubicBezTo>
                <a:cubicBezTo>
                  <a:pt x="20078" y="10071"/>
                  <a:pt x="20110" y="10028"/>
                  <a:pt x="20141" y="9996"/>
                </a:cubicBezTo>
                <a:cubicBezTo>
                  <a:pt x="20126" y="10059"/>
                  <a:pt x="20066" y="10075"/>
                  <a:pt x="20017" y="10120"/>
                </a:cubicBezTo>
                <a:cubicBezTo>
                  <a:pt x="19975" y="10158"/>
                  <a:pt x="19957" y="10148"/>
                  <a:pt x="19918" y="10170"/>
                </a:cubicBezTo>
                <a:cubicBezTo>
                  <a:pt x="19895" y="10193"/>
                  <a:pt x="19887" y="10204"/>
                  <a:pt x="19893" y="10170"/>
                </a:cubicBezTo>
              </a:path>
              <a:path w="521" h="249">
                <a:moveTo>
                  <a:pt x="19769" y="10120"/>
                </a:moveTo>
                <a:cubicBezTo>
                  <a:pt x="19733" y="10093"/>
                  <a:pt x="19720" y="10090"/>
                  <a:pt x="19695" y="10071"/>
                </a:cubicBezTo>
                <a:cubicBezTo>
                  <a:pt x="19621" y="10015"/>
                  <a:pt x="19664" y="10060"/>
                  <a:pt x="19720" y="10096"/>
                </a:cubicBezTo>
                <a:cubicBezTo>
                  <a:pt x="19771" y="10129"/>
                  <a:pt x="19756" y="10132"/>
                  <a:pt x="19794" y="10145"/>
                </a:cubicBezTo>
              </a:path>
              <a:path w="521" h="249">
                <a:moveTo>
                  <a:pt x="19869" y="9947"/>
                </a:moveTo>
                <a:cubicBezTo>
                  <a:pt x="19880" y="10013"/>
                  <a:pt x="19883" y="10146"/>
                  <a:pt x="19918" y="9996"/>
                </a:cubicBezTo>
                <a:cubicBezTo>
                  <a:pt x="19918" y="9988"/>
                  <a:pt x="19918" y="9979"/>
                  <a:pt x="19918" y="997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15200" y="3813120"/>
            <a:ext cx="214560" cy="268200"/>
          </a:xfrm>
          <a:custGeom>
            <a:avLst/>
            <a:gdLst/>
            <a:ahLst/>
            <a:rect l="l" t="t" r="r" b="b"/>
            <a:pathLst>
              <a:path w="597" h="745">
                <a:moveTo>
                  <a:pt x="22870" y="10964"/>
                </a:moveTo>
                <a:cubicBezTo>
                  <a:pt x="22860" y="10933"/>
                  <a:pt x="22829" y="10930"/>
                  <a:pt x="22820" y="10889"/>
                </a:cubicBezTo>
                <a:cubicBezTo>
                  <a:pt x="22820" y="10848"/>
                  <a:pt x="22820" y="10840"/>
                  <a:pt x="22820" y="10815"/>
                </a:cubicBezTo>
                <a:cubicBezTo>
                  <a:pt x="22820" y="10951"/>
                  <a:pt x="22824" y="11104"/>
                  <a:pt x="22845" y="11237"/>
                </a:cubicBezTo>
                <a:cubicBezTo>
                  <a:pt x="22852" y="11279"/>
                  <a:pt x="22870" y="11354"/>
                  <a:pt x="22870" y="11311"/>
                </a:cubicBezTo>
              </a:path>
              <a:path w="597" h="745">
                <a:moveTo>
                  <a:pt x="23044" y="10691"/>
                </a:moveTo>
                <a:cubicBezTo>
                  <a:pt x="23062" y="10765"/>
                  <a:pt x="23070" y="10772"/>
                  <a:pt x="23068" y="10815"/>
                </a:cubicBezTo>
                <a:cubicBezTo>
                  <a:pt x="23068" y="10750"/>
                  <a:pt x="23069" y="10696"/>
                  <a:pt x="23093" y="10641"/>
                </a:cubicBezTo>
                <a:cubicBezTo>
                  <a:pt x="23199" y="10641"/>
                  <a:pt x="23248" y="10609"/>
                  <a:pt x="23341" y="10592"/>
                </a:cubicBezTo>
                <a:cubicBezTo>
                  <a:pt x="23349" y="10592"/>
                  <a:pt x="23358" y="10592"/>
                  <a:pt x="23366" y="10592"/>
                </a:cubicBezTo>
                <a:cubicBezTo>
                  <a:pt x="23366" y="10750"/>
                  <a:pt x="23388" y="10905"/>
                  <a:pt x="23391" y="11063"/>
                </a:cubicBezTo>
                <a:cubicBezTo>
                  <a:pt x="23391" y="11157"/>
                  <a:pt x="23370" y="11178"/>
                  <a:pt x="23416" y="1121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528040" y="3867120"/>
            <a:ext cx="204840" cy="142920"/>
          </a:xfrm>
          <a:custGeom>
            <a:avLst/>
            <a:gdLst/>
            <a:ahLst/>
            <a:rect l="l" t="t" r="r" b="b"/>
            <a:pathLst>
              <a:path w="572" h="398">
                <a:moveTo>
                  <a:pt x="23788" y="10815"/>
                </a:moveTo>
                <a:cubicBezTo>
                  <a:pt x="23831" y="10800"/>
                  <a:pt x="23814" y="10776"/>
                  <a:pt x="23788" y="10740"/>
                </a:cubicBezTo>
                <a:cubicBezTo>
                  <a:pt x="23707" y="10786"/>
                  <a:pt x="23636" y="10995"/>
                  <a:pt x="23713" y="11112"/>
                </a:cubicBezTo>
                <a:cubicBezTo>
                  <a:pt x="23809" y="11257"/>
                  <a:pt x="23920" y="10993"/>
                  <a:pt x="23937" y="10964"/>
                </a:cubicBezTo>
              </a:path>
              <a:path w="572" h="398">
                <a:moveTo>
                  <a:pt x="23937" y="10740"/>
                </a:moveTo>
                <a:cubicBezTo>
                  <a:pt x="23939" y="10778"/>
                  <a:pt x="23992" y="11085"/>
                  <a:pt x="23986" y="11088"/>
                </a:cubicBezTo>
                <a:cubicBezTo>
                  <a:pt x="23978" y="11080"/>
                  <a:pt x="23969" y="11071"/>
                  <a:pt x="23961" y="11063"/>
                </a:cubicBezTo>
                <a:cubicBezTo>
                  <a:pt x="23952" y="11016"/>
                  <a:pt x="23887" y="10760"/>
                  <a:pt x="23986" y="10765"/>
                </a:cubicBezTo>
                <a:cubicBezTo>
                  <a:pt x="24126" y="10773"/>
                  <a:pt x="24087" y="10954"/>
                  <a:pt x="24061" y="10964"/>
                </a:cubicBezTo>
                <a:cubicBezTo>
                  <a:pt x="24056" y="10938"/>
                  <a:pt x="23993" y="10659"/>
                  <a:pt x="24135" y="10740"/>
                </a:cubicBezTo>
                <a:cubicBezTo>
                  <a:pt x="24223" y="10790"/>
                  <a:pt x="24251" y="10921"/>
                  <a:pt x="24259" y="11013"/>
                </a:cubicBezTo>
                <a:cubicBezTo>
                  <a:pt x="24259" y="11021"/>
                  <a:pt x="24259" y="11030"/>
                  <a:pt x="24259" y="1103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08320"/>
            <a:ext cx="822960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composite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2971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495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486040" y="4952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4864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3800" y="2590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64160" y="4952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9040" y="4952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920" y="3733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76720" y="4303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9760" y="366840"/>
            <a:ext cx="610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find the area of composite fig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08320"/>
            <a:ext cx="822960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                                2.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2286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3581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276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286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3124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8520" y="3124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4040" y="2779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78320" y="1905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1440" y="3541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133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238880" y="2133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562720" y="2133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3505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562720" y="1294920"/>
            <a:ext cx="1676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38880" y="1295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3505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06960" y="2666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34120" y="3084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16640" y="1523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00800" y="3770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5:50:12Z</dcterms:created>
  <dc:creator>ccps</dc:creator>
  <dc:description/>
  <dc:language>en-US</dc:language>
  <cp:lastModifiedBy>deanne elizabeth mcgrath</cp:lastModifiedBy>
  <dcterms:modified xsi:type="dcterms:W3CDTF">2011-02-17T19:08:53Z</dcterms:modified>
  <cp:revision>12</cp:revision>
  <dc:subject/>
  <dc:title>Geometry</dc:title>
</cp:coreProperties>
</file>